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0.png" ContentType="image/png"/>
  <Override PartName="/ppt/media/image6.jpeg" ContentType="image/jpeg"/>
  <Override PartName="/ppt/media/image27.jpeg" ContentType="image/jpeg"/>
  <Override PartName="/ppt/media/image9.png" ContentType="image/png"/>
  <Override PartName="/ppt/media/image7.png" ContentType="image/png"/>
  <Override PartName="/ppt/media/image5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24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png" ContentType="image/png"/>
  <Override PartName="/ppt/media/image25.jpeg" ContentType="image/jpeg"/>
  <Override PartName="/ppt/media/image28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ADBEA-55FC-469D-8D89-F4589DFD7F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D1E61-ACF5-4EEB-AF11-D61D720194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300320" y="801720"/>
            <a:ext cx="4260600" cy="319572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CC1E-3D89-4692-9696-7DD3CCB97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2CA2-0F81-484E-907B-9DC215B2F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061B-8BC2-4AB6-A503-FD4E80868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2F9A-F8F9-4781-A6B0-D46A65CF4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C131C-B4A5-4281-BB79-60BBE38A0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AEE6E-1730-4EBF-B019-905CD6037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8B450-7554-4A82-BE8C-EE5B6879F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7D497-BB5D-4687-B7DE-A3AD69DE4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4D624-9F13-4A75-BA40-9787EBC91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320C9-C612-402A-9442-81210A449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41B4B-568B-49C9-93FB-5B72AC217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C3EB-FCD1-419A-B0CA-B05D51411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254C7-EF84-4BA2-A6DE-7C82B4E7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1027A-2809-4D68-BC36-DCB85E9D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BBC99-1ED2-4BD5-9558-443DCE97A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04EFD-4225-44CB-9E27-61235A053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A74EF-5BFB-4265-90E4-9DB944AAA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602D-90B5-4D8A-AAB6-DD4586DC0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ABFD-BB8B-4680-B15C-7588A65B7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C7FB-F7EF-4BBC-8791-1072AFDEE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0EF1-8791-47EB-B58A-867F98FB1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3489-AEFD-4067-A552-53489DAF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A4C8-334E-4DF7-921A-B7440A0F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3B81-E4F4-4A7C-9C65-426D0404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46D74-E84A-49F8-870F-32CF738F7B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BAB8D-F3E2-4DF9-8DB9-D5204AC752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2352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Verdana"/>
              </a:rPr>
              <a:t>Акутни коронарни синдром</a:t>
            </a:r>
            <a:br>
              <a:rPr sz="4000"/>
            </a:br>
            <a:br>
              <a:rPr sz="16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cute coronary syndrom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228600" y="49528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Професор доктор Владимир Здравковић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Основне струковне студиј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Интерна медицина са него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F012007"/>
          <p:cNvPicPr/>
          <p:nvPr/>
        </p:nvPicPr>
        <p:blipFill>
          <a:blip r:embed="rId1"/>
          <a:stretch/>
        </p:blipFill>
        <p:spPr>
          <a:xfrm>
            <a:off x="838080" y="1676520"/>
            <a:ext cx="7772400" cy="44193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3"/>
          <p:cNvSpPr/>
          <p:nvPr/>
        </p:nvSpPr>
        <p:spPr>
          <a:xfrm>
            <a:off x="1523880" y="914400"/>
            <a:ext cx="22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brous Plaq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5331960" y="914400"/>
            <a:ext cx="27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icated Les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91404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Компликовани атерогени пла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755820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Dutch"/>
              </a:rPr>
              <a:t>Настаје процесом некрозе унутар фиброзног плака</a:t>
            </a:r>
            <a:r>
              <a:rPr b="0" lang="en-US" sz="2600" spc="-1" strike="noStrike">
                <a:solidFill>
                  <a:srgbClr val="000000"/>
                </a:solidFill>
                <a:latin typeface="Dutch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Dutch"/>
              </a:rPr>
              <a:t>Последице су</a:t>
            </a:r>
            <a:r>
              <a:rPr b="0" lang="en-US" sz="2600" spc="-1" strike="noStrike">
                <a:solidFill>
                  <a:srgbClr val="000000"/>
                </a:solidFill>
                <a:latin typeface="Dutch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Dutch"/>
              </a:rPr>
              <a:t>ерозија плак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Dutch"/>
              </a:rPr>
              <a:t>руптура плак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Dutch"/>
              </a:rPr>
              <a:t>крварења у пла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Dutch"/>
              </a:rPr>
              <a:t>калцификације делова фиброзног плака</a:t>
            </a:r>
            <a:r>
              <a:rPr b="0" lang="en-US" sz="2600" spc="-1" strike="noStrike">
                <a:solidFill>
                  <a:srgbClr val="000000"/>
                </a:solidFill>
                <a:latin typeface="Dutch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Dutch"/>
              </a:rPr>
              <a:t>појава анеуризме и руптуре крвног суд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38000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4572000" y="1981080"/>
            <a:ext cx="4038480" cy="396252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3"/>
          <p:cNvSpPr/>
          <p:nvPr/>
        </p:nvSpPr>
        <p:spPr>
          <a:xfrm>
            <a:off x="2594520" y="838080"/>
            <a:ext cx="405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plicated Lesion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3733920" cy="39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560" y="837720"/>
            <a:ext cx="8001000" cy="68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Коронарна болес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762120" y="190512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Стабилан, хроничан клинички облик</a:t>
            </a: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762120" y="38098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Нестабилан клинички облик</a:t>
            </a: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Picture 5" descr="F6"/>
          <p:cNvPicPr/>
          <p:nvPr/>
        </p:nvPicPr>
        <p:blipFill>
          <a:blip r:embed="rId1"/>
          <a:srcRect l="0" t="24491" r="0" b="48983"/>
          <a:stretch/>
        </p:blipFill>
        <p:spPr>
          <a:xfrm>
            <a:off x="685800" y="2286000"/>
            <a:ext cx="7848720" cy="14860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F6"/>
          <p:cNvPicPr/>
          <p:nvPr/>
        </p:nvPicPr>
        <p:blipFill>
          <a:blip r:embed="rId2"/>
          <a:srcRect l="0" t="48992" r="0" b="0"/>
          <a:stretch/>
        </p:blipFill>
        <p:spPr>
          <a:xfrm>
            <a:off x="685800" y="4267080"/>
            <a:ext cx="7848720" cy="186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5410080" y="3809880"/>
            <a:ext cx="3505320" cy="19378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Тромбоза на терену атерогеног пла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компликован пла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акутни коронарни син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5486400" y="2133720"/>
            <a:ext cx="3352680" cy="15721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Атерогени пла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екомпликован пла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табилна ангин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4" name="Object 4"/>
          <p:cNvGraphicFramePr/>
          <p:nvPr/>
        </p:nvGraphicFramePr>
        <p:xfrm>
          <a:off x="304920" y="1981080"/>
          <a:ext cx="5038560" cy="412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981080"/>
                    <a:ext cx="5038560" cy="412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Text Box 5"/>
          <p:cNvSpPr/>
          <p:nvPr/>
        </p:nvSpPr>
        <p:spPr>
          <a:xfrm>
            <a:off x="2590920" y="1981080"/>
            <a:ext cx="114300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3733920" y="5638680"/>
            <a:ext cx="14475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304920" y="838080"/>
            <a:ext cx="800100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Коронарна болес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Тромбоза на терену атерогеног плак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неоклузивни тромб</a:t>
            </a: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оклузивни тромб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304560" y="685800"/>
            <a:ext cx="8001000" cy="835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Акутни коронарни синдр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Picture 7" descr=""/>
          <p:cNvPicPr/>
          <p:nvPr/>
        </p:nvPicPr>
        <p:blipFill>
          <a:blip r:embed="rId1"/>
          <a:stretch/>
        </p:blipFill>
        <p:spPr>
          <a:xfrm>
            <a:off x="914400" y="2362320"/>
            <a:ext cx="3581280" cy="30798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"/>
          <p:cNvPicPr/>
          <p:nvPr/>
        </p:nvPicPr>
        <p:blipFill>
          <a:blip r:embed="rId2"/>
          <a:stretch/>
        </p:blipFill>
        <p:spPr>
          <a:xfrm>
            <a:off x="4724280" y="2362320"/>
            <a:ext cx="3429000" cy="30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66280" y="1904760"/>
            <a:ext cx="78915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Назив за клинички синдром којим означавамо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нагло настали поремећај крвотока у коронарним артеријама са последичном исхемијом/некрозом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одговарајућег дела миокард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Бол у грудима је основни симптом који иницира постављање радне дијагнозе, али класификација и даљи дијагностички поступци засновани су на електрокардиограму и кардиоспецифичним ензимим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304560" y="685800"/>
            <a:ext cx="8001000" cy="835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000000"/>
                </a:solidFill>
                <a:latin typeface="Verdana"/>
              </a:rPr>
              <a:t>Акутни коронарни синдром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520" y="837720"/>
            <a:ext cx="8340840" cy="68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Verdana"/>
              </a:rPr>
              <a:t>Дијагноза акутног коронарног синдром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457200" y="198108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Критеријуми Светске здравствене орг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cc0000"/>
                </a:solidFill>
                <a:latin typeface="Verdana"/>
              </a:rPr>
              <a:t>постојање бола у грудима</a:t>
            </a:r>
            <a:r>
              <a:rPr b="0" lang="en-US" sz="2200" spc="-1" strike="noStrike">
                <a:solidFill>
                  <a:srgbClr val="cc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еволутивне промене у ЕКГ-у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пораст серумских кардијалних маркера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Дијагноза се поставља са великом вероватноћом ако су присутна 2 од 3 наведена критеријум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4419720" y="6248520"/>
            <a:ext cx="472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Ostojić M. Preporuke u preventivnom, dijagnostičkom i terapijskom pristupu bolesnika sa bolom u grudima. Beograd 200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51920" y="1066680"/>
            <a:ext cx="85345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Симптоматологиј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Ангинозни бол је основни симптом који иницира постављање радне дијагноз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Picture 3" descr="15-heart-symptoms-s2-heart-disease-warning-sign"/>
          <p:cNvPicPr/>
          <p:nvPr/>
        </p:nvPicPr>
        <p:blipFill>
          <a:blip r:embed="rId1"/>
          <a:stretch/>
        </p:blipFill>
        <p:spPr>
          <a:xfrm>
            <a:off x="228600" y="1981080"/>
            <a:ext cx="4695840" cy="31910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15-heart-symptoms-s16-12-heart-symptoms-never-to-ignore-summary"/>
          <p:cNvPicPr/>
          <p:nvPr/>
        </p:nvPicPr>
        <p:blipFill>
          <a:blip r:embed="rId2"/>
          <a:stretch/>
        </p:blipFill>
        <p:spPr>
          <a:xfrm>
            <a:off x="4572000" y="685800"/>
            <a:ext cx="4572000" cy="319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15-heart-symptoms-s5-man-with-chest-pain"/>
          <p:cNvPicPr/>
          <p:nvPr/>
        </p:nvPicPr>
        <p:blipFill>
          <a:blip r:embed="rId1"/>
          <a:stretch/>
        </p:blipFill>
        <p:spPr>
          <a:xfrm>
            <a:off x="304920" y="1981080"/>
            <a:ext cx="4695840" cy="31910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" descr="15-heart-symptoms-s10-man-suffers-body-pains"/>
          <p:cNvPicPr/>
          <p:nvPr/>
        </p:nvPicPr>
        <p:blipFill>
          <a:blip r:embed="rId2"/>
          <a:stretch/>
        </p:blipFill>
        <p:spPr>
          <a:xfrm>
            <a:off x="4448160" y="609480"/>
            <a:ext cx="4695840" cy="31910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22860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Симптоматологиј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Ангинозни бол се типично локализује отвореном шако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Пропагира се у рамена, леђа, вра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Глобални терет од кардиоваскуларних болест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У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2002</a:t>
            </a:r>
            <a:r>
              <a:rPr b="0" lang="en-GB" sz="27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КВБ су патриципирале у трећини укупне смрт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2009.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године</a:t>
            </a: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Смртност од КВБ</a:t>
            </a: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у САД</a:t>
            </a: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~</a:t>
            </a: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sl-SI" sz="1800" spc="-1" strike="noStrike">
                <a:solidFill>
                  <a:srgbClr val="000000"/>
                </a:solidFill>
                <a:latin typeface="Verdana"/>
              </a:rPr>
              <a:t>54%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2011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Мит о КВБ као болестима мушкараца срушен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Болести срца су водећи узрок смртности жена у свим развијеним земљам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020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године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Морталитет због КВБ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се процењује на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.000.0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"/>
          <p:cNvPicPr/>
          <p:nvPr/>
        </p:nvPicPr>
        <p:blipFill>
          <a:blip r:embed="rId1"/>
          <a:srcRect l="18679" t="22290" r="8566" b="10150"/>
          <a:stretch/>
        </p:blipFill>
        <p:spPr>
          <a:xfrm>
            <a:off x="380880" y="1114560"/>
            <a:ext cx="8229600" cy="5157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9" descr=""/>
          <p:cNvPicPr/>
          <p:nvPr/>
        </p:nvPicPr>
        <p:blipFill>
          <a:blip r:embed="rId2"/>
          <a:srcRect l="79169" t="10708" r="8333" b="79164"/>
          <a:stretch/>
        </p:blipFill>
        <p:spPr>
          <a:xfrm>
            <a:off x="7162920" y="5556240"/>
            <a:ext cx="1981080" cy="130176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305920" cy="60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Диференцијална дијагноза бола у грудим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520" y="837720"/>
            <a:ext cx="8340840" cy="68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Verdana"/>
              </a:rPr>
              <a:t>Дијагноза акутног коронарног синдром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457200" y="2514600"/>
            <a:ext cx="82296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Критеријуми Светске здравствене орг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постојање бола у грудима</a:t>
            </a:r>
            <a:r>
              <a:rPr b="0" lang="en-US" sz="2400" spc="-1" strike="noStrike">
                <a:solidFill>
                  <a:srgbClr val="cc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cc0000"/>
                </a:solidFill>
                <a:latin typeface="Verdana"/>
              </a:rPr>
              <a:t>еволутивне промене у ЕКГ-у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пораст серумских кардијалних маркера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4419720" y="6248520"/>
            <a:ext cx="472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Ostojić M. Preporuke u preventivnom, dijagnostičkom i terapijskom pristupu bolesnika sa bolom u grudima. Beograd 200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1066680" y="2133720"/>
          <a:ext cx="2667240" cy="884160"/>
        </p:xfrm>
        <a:graphic>
          <a:graphicData uri="http://schemas.openxmlformats.org/drawingml/2006/table">
            <a:tbl>
              <a:tblPr/>
              <a:tblGrid>
                <a:gridCol w="2667240"/>
              </a:tblGrid>
              <a:tr h="884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600" spc="-1" strike="noStrike">
                          <a:solidFill>
                            <a:srgbClr val="dddddd"/>
                          </a:solidFill>
                          <a:latin typeface="Verdana"/>
                        </a:rPr>
                        <a:t>без </a:t>
                      </a:r>
                      <a:r>
                        <a:rPr b="0" lang="en-US" sz="2600" spc="-1" strike="noStrike">
                          <a:solidFill>
                            <a:srgbClr val="dddddd"/>
                          </a:solidFill>
                          <a:latin typeface="Verdana"/>
                        </a:rPr>
                        <a:t>ST</a:t>
                      </a:r>
                      <a:r>
                        <a:rPr b="0" lang="sr-CS" sz="2600" spc="-1" strike="noStrike">
                          <a:solidFill>
                            <a:srgbClr val="dddddd"/>
                          </a:solidFill>
                          <a:latin typeface="Verdana"/>
                        </a:rPr>
                        <a:t> елевациј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5334120" y="2133720"/>
          <a:ext cx="2590560" cy="914400"/>
        </p:xfrm>
        <a:graphic>
          <a:graphicData uri="http://schemas.openxmlformats.org/drawingml/2006/table">
            <a:tbl>
              <a:tblPr/>
              <a:tblGrid>
                <a:gridCol w="259056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600" spc="-1" strike="noStrike">
                          <a:solidFill>
                            <a:srgbClr val="dddddd"/>
                          </a:solidFill>
                          <a:latin typeface="Verdana"/>
                        </a:rPr>
                        <a:t>са</a:t>
                      </a:r>
                      <a:r>
                        <a:rPr b="0" lang="en-US" sz="2600" spc="-1" strike="noStrike">
                          <a:solidFill>
                            <a:srgbClr val="dddddd"/>
                          </a:solidFill>
                          <a:latin typeface="Verdana"/>
                        </a:rPr>
                        <a:t> ST </a:t>
                      </a:r>
                      <a:r>
                        <a:rPr b="0" lang="sr-CS" sz="2600" spc="-1" strike="noStrike">
                          <a:solidFill>
                            <a:srgbClr val="dddddd"/>
                          </a:solidFill>
                          <a:latin typeface="Verdana"/>
                        </a:rPr>
                        <a:t>елевацијом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457200" y="3657600"/>
          <a:ext cx="2057400" cy="3808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 non </a:t>
                      </a:r>
                      <a:r>
                        <a:rPr b="0" lang="sl-SI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bili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3b2c1"/>
                    </a:solidFill>
                  </a:tcPr>
                </a:tc>
              </a:tr>
            </a:tbl>
          </a:graphicData>
        </a:graphic>
      </p:graphicFrame>
      <p:sp>
        <p:nvSpPr>
          <p:cNvPr id="173" name="Line 20"/>
          <p:cNvSpPr/>
          <p:nvPr/>
        </p:nvSpPr>
        <p:spPr>
          <a:xfrm flipH="1">
            <a:off x="2362320" y="152388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Line 21"/>
          <p:cNvSpPr/>
          <p:nvPr/>
        </p:nvSpPr>
        <p:spPr>
          <a:xfrm>
            <a:off x="2362320" y="1523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Line 22"/>
          <p:cNvSpPr/>
          <p:nvPr/>
        </p:nvSpPr>
        <p:spPr>
          <a:xfrm>
            <a:off x="4495680" y="15238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Line 23"/>
          <p:cNvSpPr/>
          <p:nvPr/>
        </p:nvSpPr>
        <p:spPr>
          <a:xfrm>
            <a:off x="6553080" y="1523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Line 24"/>
          <p:cNvSpPr/>
          <p:nvPr/>
        </p:nvSpPr>
        <p:spPr>
          <a:xfrm>
            <a:off x="2362320" y="2666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Line 25"/>
          <p:cNvSpPr/>
          <p:nvPr/>
        </p:nvSpPr>
        <p:spPr>
          <a:xfrm flipH="1">
            <a:off x="1371600" y="3124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Line 26"/>
          <p:cNvSpPr/>
          <p:nvPr/>
        </p:nvSpPr>
        <p:spPr>
          <a:xfrm>
            <a:off x="2362320" y="312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5715000" y="3581280"/>
          <a:ext cx="1981080" cy="487440"/>
        </p:xfrm>
        <a:graphic>
          <a:graphicData uri="http://schemas.openxmlformats.org/drawingml/2006/table">
            <a:tbl>
              <a:tblPr/>
              <a:tblGrid>
                <a:gridCol w="1981080"/>
              </a:tblGrid>
              <a:tr h="487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MI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3b2c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2666880" y="3581280"/>
          <a:ext cx="1676520" cy="487440"/>
        </p:xfrm>
        <a:graphic>
          <a:graphicData uri="http://schemas.openxmlformats.org/drawingml/2006/table">
            <a:tbl>
              <a:tblPr/>
              <a:tblGrid>
                <a:gridCol w="1676520"/>
              </a:tblGrid>
              <a:tr h="487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MI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3b2c1"/>
                    </a:solidFill>
                  </a:tcPr>
                </a:tc>
              </a:tr>
            </a:tbl>
          </a:graphicData>
        </a:graphic>
      </p:graphicFrame>
      <p:sp>
        <p:nvSpPr>
          <p:cNvPr id="182" name="Line 39"/>
          <p:cNvSpPr/>
          <p:nvPr/>
        </p:nvSpPr>
        <p:spPr>
          <a:xfrm>
            <a:off x="1371600" y="3124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Line 40"/>
          <p:cNvSpPr/>
          <p:nvPr/>
        </p:nvSpPr>
        <p:spPr>
          <a:xfrm>
            <a:off x="335268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Line 41"/>
          <p:cNvSpPr/>
          <p:nvPr/>
        </p:nvSpPr>
        <p:spPr>
          <a:xfrm>
            <a:off x="6629400" y="26668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5" name="Picture 42" descr=""/>
          <p:cNvPicPr/>
          <p:nvPr/>
        </p:nvPicPr>
        <p:blipFill>
          <a:blip r:embed="rId1"/>
          <a:stretch/>
        </p:blipFill>
        <p:spPr>
          <a:xfrm>
            <a:off x="5562720" y="4267080"/>
            <a:ext cx="2251080" cy="1752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6" name="Picture 43" descr=""/>
          <p:cNvPicPr/>
          <p:nvPr/>
        </p:nvPicPr>
        <p:blipFill>
          <a:blip r:embed="rId2"/>
          <a:stretch/>
        </p:blipFill>
        <p:spPr>
          <a:xfrm>
            <a:off x="2590920" y="4267080"/>
            <a:ext cx="1904760" cy="1752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7" name="Picture 44" descr=""/>
          <p:cNvPicPr/>
          <p:nvPr/>
        </p:nvPicPr>
        <p:blipFill>
          <a:blip r:embed="rId3"/>
          <a:stretch/>
        </p:blipFill>
        <p:spPr>
          <a:xfrm>
            <a:off x="533520" y="4267080"/>
            <a:ext cx="1800000" cy="1752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8" name="AutoShape 47"/>
          <p:cNvSpPr/>
          <p:nvPr/>
        </p:nvSpPr>
        <p:spPr>
          <a:xfrm>
            <a:off x="6553080" y="5029200"/>
            <a:ext cx="152640" cy="762120"/>
          </a:xfrm>
          <a:prstGeom prst="upArrow">
            <a:avLst>
              <a:gd name="adj1" fmla="val 50000"/>
              <a:gd name="adj2" fmla="val 12482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3048120" y="6400800"/>
            <a:ext cx="6095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Vrhovac B. et al. Interna medicina. Medicinska naklada, Zagreb 2008;6:</a:t>
            </a:r>
            <a:r>
              <a:rPr b="0" lang="en-US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582-59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Rectangle 56"/>
          <p:cNvSpPr/>
          <p:nvPr/>
        </p:nvSpPr>
        <p:spPr>
          <a:xfrm>
            <a:off x="304920" y="914400"/>
            <a:ext cx="84582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Verdana"/>
              </a:rPr>
              <a:t>Електрокардиографија - класификациј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703440" y="6248520"/>
            <a:ext cx="189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1905120"/>
            <a:ext cx="8713800" cy="107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EKG</a:t>
            </a:r>
            <a:r>
              <a:rPr b="0" lang="sl-SI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100" spc="-1" strike="noStrike">
                <a:solidFill>
                  <a:srgbClr val="000000"/>
                </a:solidFill>
                <a:latin typeface="Verdana"/>
              </a:rPr>
              <a:t>презентација инфаркта миокарда са</a:t>
            </a:r>
            <a:r>
              <a:rPr b="0" lang="sl-SI" sz="2100" spc="-1" strike="noStrike">
                <a:solidFill>
                  <a:srgbClr val="000000"/>
                </a:solidFill>
                <a:latin typeface="Verdana"/>
              </a:rPr>
              <a:t> ST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100" spc="-1" strike="noStrike">
                <a:solidFill>
                  <a:srgbClr val="000000"/>
                </a:solidFill>
                <a:latin typeface="Verdana"/>
              </a:rPr>
              <a:t>елевацијом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308160" y="5257800"/>
            <a:ext cx="1388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ви минут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1756440" y="5257800"/>
            <a:ext cx="1903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30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инута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ат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3964680" y="5257800"/>
            <a:ext cx="1173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ви дан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5564880" y="5257800"/>
            <a:ext cx="20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Хронична еволуциј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8" name="Group 9"/>
          <p:cNvGrpSpPr/>
          <p:nvPr/>
        </p:nvGrpSpPr>
        <p:grpSpPr>
          <a:xfrm>
            <a:off x="0" y="3124080"/>
            <a:ext cx="9144000" cy="1704960"/>
            <a:chOff x="0" y="3124080"/>
            <a:chExt cx="9144000" cy="1704960"/>
          </a:xfrm>
        </p:grpSpPr>
        <p:sp>
          <p:nvSpPr>
            <p:cNvPr id="199" name="AutoShape 10"/>
            <p:cNvSpPr/>
            <p:nvPr/>
          </p:nvSpPr>
          <p:spPr>
            <a:xfrm>
              <a:off x="0" y="3124080"/>
              <a:ext cx="9070200" cy="17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00" name="Picture 11" descr=""/>
            <p:cNvPicPr/>
            <p:nvPr/>
          </p:nvPicPr>
          <p:blipFill>
            <a:blip r:embed="rId1"/>
            <a:stretch/>
          </p:blipFill>
          <p:spPr>
            <a:xfrm>
              <a:off x="0" y="3144600"/>
              <a:ext cx="9144000" cy="167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1" name="Group 12"/>
            <p:cNvGrpSpPr/>
            <p:nvPr/>
          </p:nvGrpSpPr>
          <p:grpSpPr>
            <a:xfrm>
              <a:off x="2844000" y="3168360"/>
              <a:ext cx="6224040" cy="1459800"/>
              <a:chOff x="2844000" y="3168360"/>
              <a:chExt cx="6224040" cy="1459800"/>
            </a:xfrm>
          </p:grpSpPr>
          <p:sp>
            <p:nvSpPr>
              <p:cNvPr id="202" name="Rectangle 13"/>
              <p:cNvSpPr/>
              <p:nvPr/>
            </p:nvSpPr>
            <p:spPr>
              <a:xfrm>
                <a:off x="2844000" y="3168360"/>
                <a:ext cx="1387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CS" sz="1800" spc="-1" strike="noStrike">
                    <a:solidFill>
                      <a:srgbClr val="000000"/>
                    </a:solidFill>
                    <a:latin typeface="Arial"/>
                  </a:rPr>
                  <a:t>елевација </a:t>
                </a:r>
                <a:r>
                  <a:rPr b="0" lang="sl-SI" sz="1800" spc="-1" strike="noStrike">
                    <a:solidFill>
                      <a:srgbClr val="000000"/>
                    </a:solidFill>
                    <a:latin typeface="Verdana"/>
                  </a:rPr>
                  <a:t>ST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3" name="Rectangle 14"/>
              <p:cNvSpPr/>
              <p:nvPr/>
            </p:nvSpPr>
            <p:spPr>
              <a:xfrm>
                <a:off x="5441400" y="4336920"/>
                <a:ext cx="6742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400" spc="-1" strike="noStrike">
                    <a:solidFill>
                      <a:srgbClr val="000000"/>
                    </a:solidFill>
                    <a:latin typeface="Arial"/>
                  </a:rPr>
                  <a:t>q-</a:t>
                </a:r>
                <a:r>
                  <a:rPr b="1" lang="sr-CS" sz="1400" spc="-1" strike="noStrike">
                    <a:solidFill>
                      <a:srgbClr val="000000"/>
                    </a:solidFill>
                    <a:latin typeface="Arial"/>
                  </a:rPr>
                  <a:t>зубац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4" name="Rectangle 15"/>
              <p:cNvSpPr/>
              <p:nvPr/>
            </p:nvSpPr>
            <p:spPr>
              <a:xfrm>
                <a:off x="6904080" y="4414680"/>
                <a:ext cx="1054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400" spc="-1" strike="noStrike">
                    <a:solidFill>
                      <a:srgbClr val="000000"/>
                    </a:solidFill>
                    <a:latin typeface="Arial"/>
                  </a:rPr>
                  <a:t>негативан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Latn-C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5" name="Rectangle 16"/>
              <p:cNvSpPr/>
              <p:nvPr/>
            </p:nvSpPr>
            <p:spPr>
              <a:xfrm>
                <a:off x="7370280" y="3465360"/>
                <a:ext cx="1697760" cy="1015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06" name="Text Box 17"/>
          <p:cNvSpPr/>
          <p:nvPr/>
        </p:nvSpPr>
        <p:spPr>
          <a:xfrm>
            <a:off x="6084720" y="6524640"/>
            <a:ext cx="302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B-Clinical Training Sept 200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Rectangle 20"/>
          <p:cNvSpPr/>
          <p:nvPr/>
        </p:nvSpPr>
        <p:spPr>
          <a:xfrm>
            <a:off x="304920" y="914400"/>
            <a:ext cx="84582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Verdana"/>
              </a:rPr>
              <a:t>Електрокардиографија - класификациј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640x480-Disease State movie for PPT presentation.mp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4"/>
          <p:cNvSpPr/>
          <p:nvPr/>
        </p:nvSpPr>
        <p:spPr>
          <a:xfrm>
            <a:off x="0" y="0"/>
            <a:ext cx="7543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ffffff"/>
                </a:solidFill>
                <a:latin typeface="Verdana"/>
              </a:rPr>
              <a:t>Атеротромбоза са потпуном оклузијом крвног суда узрокује инфаркт миокарда са </a:t>
            </a:r>
            <a:r>
              <a:rPr b="0" lang="sr-Latn-CS" sz="3000" spc="-1" strike="noStrike">
                <a:solidFill>
                  <a:srgbClr val="ffffff"/>
                </a:solidFill>
                <a:latin typeface="Verdana"/>
              </a:rPr>
              <a:t>ST </a:t>
            </a:r>
            <a:r>
              <a:rPr b="0" lang="sr-CS" sz="3000" spc="-1" strike="noStrike">
                <a:solidFill>
                  <a:srgbClr val="ffffff"/>
                </a:solidFill>
                <a:latin typeface="Verdana"/>
              </a:rPr>
              <a:t>елевацијом</a:t>
            </a:r>
            <a:r>
              <a:rPr b="0" lang="sr-Latn-CS" sz="3000" spc="-1" strike="noStrike">
                <a:solidFill>
                  <a:srgbClr val="ffffff"/>
                </a:solidFill>
                <a:latin typeface="Verdana"/>
              </a:rPr>
              <a:t> - </a:t>
            </a:r>
            <a:r>
              <a:rPr b="1" lang="sr-Latn-CS" sz="3000" spc="-1" strike="noStrike">
                <a:solidFill>
                  <a:srgbClr val="ffffff"/>
                </a:solidFill>
                <a:latin typeface="Verdana"/>
              </a:rPr>
              <a:t>STEMI</a:t>
            </a:r>
            <a:r>
              <a:rPr b="0" lang="sr-Latn-CS" sz="30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sr-CS" sz="3000" spc="-1" strike="noStrike">
                <a:solidFill>
                  <a:srgbClr val="ffffff"/>
                </a:solidFill>
                <a:latin typeface="Verdana"/>
              </a:rPr>
              <a:t>а са непотпуном оклузијом</a:t>
            </a:r>
            <a:r>
              <a:rPr b="0" lang="sr-Latn-CS" sz="3000" spc="-1" strike="noStrike">
                <a:solidFill>
                  <a:srgbClr val="ffffff"/>
                </a:solidFill>
                <a:latin typeface="Verdana"/>
              </a:rPr>
              <a:t> - </a:t>
            </a:r>
            <a:r>
              <a:rPr b="1" lang="sr-Latn-CS" sz="3000" spc="-1" strike="noStrike">
                <a:solidFill>
                  <a:srgbClr val="ffffff"/>
                </a:solidFill>
                <a:latin typeface="Verdana"/>
              </a:rPr>
              <a:t>NSTEM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6629400" y="5410080"/>
            <a:ext cx="2514600" cy="762120"/>
          </a:xfrm>
          <a:prstGeom prst="rect">
            <a:avLst/>
          </a:prstGeom>
          <a:solidFill>
            <a:srgbClr val="a3b2c1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dddddd"/>
                </a:solidFill>
                <a:latin typeface="Verdana"/>
              </a:rPr>
              <a:t>Q </a:t>
            </a:r>
            <a:r>
              <a:rPr b="1" lang="sr-CS" sz="2400" spc="-1" strike="noStrike">
                <a:solidFill>
                  <a:srgbClr val="dddddd"/>
                </a:solidFill>
                <a:latin typeface="Verdana"/>
              </a:rPr>
              <a:t>инфаркт миокард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1600200" y="3276720"/>
            <a:ext cx="3048120" cy="761760"/>
          </a:xfrm>
          <a:prstGeom prst="rect">
            <a:avLst/>
          </a:prstGeom>
          <a:solidFill>
            <a:srgbClr val="a3b2c1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dddddd"/>
                </a:solidFill>
                <a:latin typeface="Verdana"/>
              </a:rPr>
              <a:t>NSTEM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dddddd"/>
                </a:solidFill>
                <a:latin typeface="Verdana"/>
              </a:rPr>
              <a:t>(</a:t>
            </a:r>
            <a:r>
              <a:rPr b="1" lang="sr-CS" sz="1600" spc="-1" strike="noStrike">
                <a:solidFill>
                  <a:srgbClr val="dddddd"/>
                </a:solidFill>
                <a:latin typeface="Verdana"/>
              </a:rPr>
              <a:t>позитиван тропонин</a:t>
            </a:r>
            <a:r>
              <a:rPr b="1" lang="sr-Latn-CS" sz="1600" spc="-1" strike="noStrike">
                <a:solidFill>
                  <a:srgbClr val="dddddd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3581280" y="5410080"/>
            <a:ext cx="2895840" cy="762120"/>
          </a:xfrm>
          <a:prstGeom prst="rect">
            <a:avLst/>
          </a:prstGeom>
          <a:solidFill>
            <a:srgbClr val="a3b2c1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dddddd"/>
                </a:solidFill>
                <a:latin typeface="Verdana"/>
              </a:rPr>
              <a:t>Non Q </a:t>
            </a:r>
            <a:r>
              <a:rPr b="1" lang="sr-CS" sz="2400" spc="-1" strike="noStrike">
                <a:solidFill>
                  <a:srgbClr val="dddddd"/>
                </a:solidFill>
                <a:latin typeface="Verdana"/>
              </a:rPr>
              <a:t>инфаркт миокард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562720" y="1905120"/>
            <a:ext cx="2590560" cy="457200"/>
          </a:xfrm>
          <a:prstGeom prst="rect">
            <a:avLst/>
          </a:prstGeom>
          <a:solidFill>
            <a:srgbClr val="a3b2c1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dddddd"/>
                </a:solidFill>
                <a:latin typeface="Verdana"/>
              </a:rPr>
              <a:t>STE – AC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838080" y="1981080"/>
            <a:ext cx="2667240" cy="381240"/>
          </a:xfrm>
          <a:prstGeom prst="rect">
            <a:avLst/>
          </a:prstGeom>
          <a:solidFill>
            <a:srgbClr val="a3b2c1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dddddd"/>
                </a:solidFill>
                <a:latin typeface="Verdana"/>
              </a:rPr>
              <a:t>NSTE – AC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228600" y="5410080"/>
            <a:ext cx="3124080" cy="762120"/>
          </a:xfrm>
          <a:prstGeom prst="rect">
            <a:avLst/>
          </a:prstGeom>
          <a:solidFill>
            <a:srgbClr val="a3b2c1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dddddd"/>
                </a:solidFill>
                <a:latin typeface="Verdana"/>
              </a:rPr>
              <a:t>AP non stabil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dddddd"/>
                </a:solidFill>
                <a:latin typeface="Verdana"/>
              </a:rPr>
              <a:t>(</a:t>
            </a:r>
            <a:r>
              <a:rPr b="1" lang="sr-CS" sz="1600" spc="-1" strike="noStrike">
                <a:solidFill>
                  <a:srgbClr val="dddddd"/>
                </a:solidFill>
                <a:latin typeface="Verdana"/>
              </a:rPr>
              <a:t>тропонин референтан</a:t>
            </a:r>
            <a:r>
              <a:rPr b="1" lang="sr-Latn-CS" sz="1600" spc="-1" strike="noStrike">
                <a:solidFill>
                  <a:srgbClr val="dddddd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AutoShape 8"/>
          <p:cNvSpPr/>
          <p:nvPr/>
        </p:nvSpPr>
        <p:spPr>
          <a:xfrm rot="5400000">
            <a:off x="2781000" y="2628720"/>
            <a:ext cx="838440" cy="457200"/>
          </a:xfrm>
          <a:prstGeom prst="rightArrow">
            <a:avLst>
              <a:gd name="adj1" fmla="val 50000"/>
              <a:gd name="adj2" fmla="val 4584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AutoShape 9"/>
          <p:cNvSpPr/>
          <p:nvPr/>
        </p:nvSpPr>
        <p:spPr>
          <a:xfrm rot="5400000">
            <a:off x="-19080" y="3790800"/>
            <a:ext cx="2667240" cy="419040"/>
          </a:xfrm>
          <a:prstGeom prst="rightArrow">
            <a:avLst>
              <a:gd name="adj1" fmla="val 50000"/>
              <a:gd name="adj2" fmla="val 15912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AutoShape 10"/>
          <p:cNvSpPr/>
          <p:nvPr/>
        </p:nvSpPr>
        <p:spPr>
          <a:xfrm rot="5400000">
            <a:off x="6438240" y="3619440"/>
            <a:ext cx="2819520" cy="609480"/>
          </a:xfrm>
          <a:prstGeom prst="rightArrow">
            <a:avLst>
              <a:gd name="adj1" fmla="val 50000"/>
              <a:gd name="adj2" fmla="val 11565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AutoShape 11"/>
          <p:cNvSpPr/>
          <p:nvPr/>
        </p:nvSpPr>
        <p:spPr>
          <a:xfrm rot="1632000">
            <a:off x="4419720" y="4459320"/>
            <a:ext cx="3487680" cy="169920"/>
          </a:xfrm>
          <a:prstGeom prst="rightArrow">
            <a:avLst>
              <a:gd name="adj1" fmla="val 50000"/>
              <a:gd name="adj2" fmla="val 51313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160" bIns="381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AutoShape 12"/>
          <p:cNvSpPr/>
          <p:nvPr/>
        </p:nvSpPr>
        <p:spPr>
          <a:xfrm rot="5400000">
            <a:off x="4381200" y="3848040"/>
            <a:ext cx="2895480" cy="228600"/>
          </a:xfrm>
          <a:prstGeom prst="rightArrow">
            <a:avLst>
              <a:gd name="adj1" fmla="val 50000"/>
              <a:gd name="adj2" fmla="val 31665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AutoShape 13"/>
          <p:cNvSpPr/>
          <p:nvPr/>
        </p:nvSpPr>
        <p:spPr>
          <a:xfrm rot="3628800">
            <a:off x="4185000" y="4507560"/>
            <a:ext cx="1567080" cy="457200"/>
          </a:xfrm>
          <a:prstGeom prst="rightArrow">
            <a:avLst>
              <a:gd name="adj1" fmla="val 50000"/>
              <a:gd name="adj2" fmla="val 8568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Text Box 14"/>
          <p:cNvSpPr/>
          <p:nvPr/>
        </p:nvSpPr>
        <p:spPr>
          <a:xfrm>
            <a:off x="1981080" y="6400800"/>
            <a:ext cx="701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Adaptirano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1" lang="sr-Latn-CS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iz A Textbook of Cardiovascular Medicine, AIM, 5th ed., E. Braunwald 1997.</a:t>
            </a:r>
            <a:r>
              <a:rPr b="0" lang="sr-Latn-CS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Line 16"/>
          <p:cNvSpPr/>
          <p:nvPr/>
        </p:nvSpPr>
        <p:spPr>
          <a:xfrm flipH="1">
            <a:off x="2437920" y="152388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Line 17"/>
          <p:cNvSpPr/>
          <p:nvPr/>
        </p:nvSpPr>
        <p:spPr>
          <a:xfrm>
            <a:off x="4495680" y="1523880"/>
            <a:ext cx="2057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Line 18"/>
          <p:cNvSpPr/>
          <p:nvPr/>
        </p:nvSpPr>
        <p:spPr>
          <a:xfrm>
            <a:off x="6553080" y="15238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Line 19"/>
          <p:cNvSpPr/>
          <p:nvPr/>
        </p:nvSpPr>
        <p:spPr>
          <a:xfrm>
            <a:off x="2438280" y="15238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Rectangle 21"/>
          <p:cNvSpPr/>
          <p:nvPr/>
        </p:nvSpPr>
        <p:spPr>
          <a:xfrm>
            <a:off x="304920" y="914400"/>
            <a:ext cx="84582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Verdana"/>
              </a:rPr>
              <a:t>Електрокардиографија - класификациј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0" y="198072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Промене у акутном коронарном синдрому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cc0000"/>
                </a:solidFill>
                <a:latin typeface="Verdana"/>
              </a:rPr>
              <a:t>елевација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 ST </a:t>
            </a:r>
            <a:r>
              <a:rPr b="0" lang="sr-CS" sz="2000" spc="-1" strike="noStrike">
                <a:solidFill>
                  <a:srgbClr val="cc0000"/>
                </a:solidFill>
                <a:latin typeface="Verdana"/>
              </a:rPr>
              <a:t>сегмента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 ≥1</a:t>
            </a:r>
            <a:r>
              <a:rPr b="0" lang="sr-CS" sz="2000" spc="-1" strike="noStrike">
                <a:solidFill>
                  <a:srgbClr val="cc0000"/>
                </a:solidFill>
                <a:latin typeface="Verdana"/>
              </a:rPr>
              <a:t>мм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cc0000"/>
                </a:solidFill>
                <a:latin typeface="Verdana"/>
              </a:rPr>
              <a:t>у најмање два блиска одвод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cc0000"/>
                </a:solidFill>
                <a:latin typeface="Verdana"/>
              </a:rPr>
              <a:t>депресија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 ST </a:t>
            </a:r>
            <a:r>
              <a:rPr b="0" lang="sr-CS" sz="2000" spc="-1" strike="noStrike">
                <a:solidFill>
                  <a:srgbClr val="cc0000"/>
                </a:solidFill>
                <a:latin typeface="Verdana"/>
              </a:rPr>
              <a:t>сегмента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 ≥1</a:t>
            </a:r>
            <a:r>
              <a:rPr b="0" lang="sr-CS" sz="2000" spc="-1" strike="noStrike">
                <a:solidFill>
                  <a:srgbClr val="cc0000"/>
                </a:solidFill>
                <a:latin typeface="Verdana"/>
              </a:rPr>
              <a:t>мм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cc0000"/>
                </a:solidFill>
                <a:latin typeface="Verdana"/>
              </a:rPr>
              <a:t>у најмање два блиска одвод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cc0000"/>
                </a:solidFill>
                <a:latin typeface="Verdana"/>
              </a:rPr>
              <a:t>Негативни исхемијски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 T </a:t>
            </a:r>
            <a:r>
              <a:rPr b="0" lang="sr-CS" sz="2000" spc="-1" strike="noStrike">
                <a:solidFill>
                  <a:srgbClr val="cc0000"/>
                </a:solidFill>
                <a:latin typeface="Verdana"/>
              </a:rPr>
              <a:t>таласи са дубином већом од 2м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Висок талас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 (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перакутна фаз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Смањење волтаже зупц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Формирање патолошког зупц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Q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Реципрочне промене у супротним одводим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5181480" y="6324480"/>
            <a:ext cx="4267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Arial"/>
              </a:rPr>
              <a:t>Ostojić M. Preporuke u preventivnom, dijagnostičkom i terapijskom pristupu bolesnika sa bolom u grudima. Beograd 2002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304920" y="914400"/>
            <a:ext cx="84582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Verdana"/>
              </a:rPr>
              <a:t>Електрокардиографиј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Друге болести и стања која могу да доведу до промена</a:t>
            </a: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 ST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сегмента</a:t>
            </a: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 T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талас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плућна емболиј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електролитски поремећај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психијатријска медикациј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дигиталис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хипервентилациј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хипертрофична кардиомиопатиј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миоперикардитис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СА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циркулаторни шок</a:t>
            </a: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хеморагија</a:t>
            </a: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сепс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акутни панкреатитис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6172200" y="6477120"/>
            <a:ext cx="1752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4343400" y="6308640"/>
            <a:ext cx="4800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nnish Medical Society Duodecim. Differential diagnosis of chest </a:t>
            </a:r>
            <a:r>
              <a:rPr b="0" lang="sl-SI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ain. In: EBM Guidelines. Evidence-Based Medicine]. Helsinki, </a:t>
            </a:r>
            <a:r>
              <a:rPr b="0" lang="sl-SI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nland: Wiley Interscience. John Wiley &amp; Sons; 2008 May 16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304920" y="914400"/>
            <a:ext cx="84582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Verdana"/>
              </a:rPr>
              <a:t>Електрокардиографија – диф. дијагноз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520" y="837720"/>
            <a:ext cx="8340840" cy="68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Verdana"/>
              </a:rPr>
              <a:t>Дијагноза акутног коронарног синдром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457200" y="2514600"/>
            <a:ext cx="82296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Критеријуми Светске здравствене орг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постојање бола у грудима</a:t>
            </a:r>
            <a:r>
              <a:rPr b="0" lang="en-US" sz="2400" spc="-1" strike="noStrike">
                <a:solidFill>
                  <a:srgbClr val="cc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еволутивне промене у ЕКГ-у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cc0000"/>
                </a:solidFill>
                <a:latin typeface="Verdana"/>
              </a:rPr>
              <a:t>пораст серумских кардијалних маркера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4419720" y="6248520"/>
            <a:ext cx="472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Ostojić M. Preporuke u preventivnom, dijagnostičkom i terapijskom pristupu bolesnika sa bolom u grudima. Beograd 200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001000" cy="60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Маркери миокардне некроз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0" name="Picture 5" descr=""/>
          <p:cNvPicPr/>
          <p:nvPr/>
        </p:nvPicPr>
        <p:blipFill>
          <a:blip r:embed="rId1"/>
          <a:srcRect l="4166" t="14037" r="4166" b="6802"/>
          <a:stretch/>
        </p:blipFill>
        <p:spPr>
          <a:xfrm>
            <a:off x="609480" y="1828800"/>
            <a:ext cx="7848720" cy="426708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6"/>
          <p:cNvSpPr/>
          <p:nvPr/>
        </p:nvSpPr>
        <p:spPr>
          <a:xfrm>
            <a:off x="4419720" y="6248520"/>
            <a:ext cx="472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Ostojić M. Preporuke u preventivnom, dijagnostičkom i terapijskom pristupu bolesnika sa bolom u grudima. Beograd 200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228240" y="5715000"/>
            <a:ext cx="8642520" cy="45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Налази се на првом месту узрока смртности у групи КВБ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rcRect l="20834" t="13014" r="27082" b="9545"/>
          <a:stretch/>
        </p:blipFill>
        <p:spPr>
          <a:xfrm>
            <a:off x="468360" y="1752480"/>
            <a:ext cx="8142120" cy="3810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"/>
          <p:cNvPicPr/>
          <p:nvPr/>
        </p:nvPicPr>
        <p:blipFill>
          <a:blip r:embed="rId2"/>
          <a:srcRect l="45779" t="54575" r="8333" b="40088"/>
          <a:stretch/>
        </p:blipFill>
        <p:spPr>
          <a:xfrm>
            <a:off x="533520" y="5029200"/>
            <a:ext cx="8135640" cy="576360"/>
          </a:xfrm>
          <a:prstGeom prst="rect">
            <a:avLst/>
          </a:prstGeom>
          <a:ln w="0">
            <a:noFill/>
          </a:ln>
        </p:spPr>
      </p:pic>
      <p:sp>
        <p:nvSpPr>
          <p:cNvPr id="99" name="Oval 5"/>
          <p:cNvSpPr/>
          <p:nvPr/>
        </p:nvSpPr>
        <p:spPr>
          <a:xfrm>
            <a:off x="6372360" y="1916280"/>
            <a:ext cx="1944720" cy="863280"/>
          </a:xfrm>
          <a:prstGeom prst="ellipse">
            <a:avLst/>
          </a:prstGeom>
          <a:noFill/>
          <a:ln w="2844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4800600" y="6400800"/>
            <a:ext cx="419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Heart disease and stroke statistics – 2010 update; AH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380520" y="914040"/>
            <a:ext cx="8001000" cy="60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Коронарна болес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0" y="2209320"/>
            <a:ext cx="91440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Појединачне вредности срчаног тропонина И</a:t>
            </a: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 (cTnI),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узетог у време пријема</a:t>
            </a: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имају сензитивност</a:t>
            </a: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 39%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специфичност</a:t>
            </a: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 91%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за акутни коронарни синдром</a:t>
            </a:r>
            <a:r>
              <a:rPr b="0" lang="sl-SI" sz="2400" spc="-1" strike="noStrike" baseline="30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Серијско одређивање овог ензима повећава сензитивност на</a:t>
            </a: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 90-100%</a:t>
            </a:r>
            <a:r>
              <a:rPr b="0" lang="sl-SI" sz="2400" spc="-1" strike="noStrike" baseline="30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Пораст тропонина се бележи 3 до 4 сата након некрозе срчаних мишићних ћелија</a:t>
            </a:r>
            <a:r>
              <a:rPr b="0" lang="sr-C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3962520" y="6080040"/>
            <a:ext cx="5181480" cy="7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dravković-Ćirić S. et al. Markeri ishemije i nekroze miokarda. U</a:t>
            </a:r>
            <a:r>
              <a:rPr b="0" lang="sl-SI" sz="1000" spc="-1" strike="noStrike">
                <a:solidFill>
                  <a:srgbClr val="000000"/>
                </a:solidFill>
                <a:latin typeface="Verdana"/>
              </a:rPr>
              <a:t>: Ćirić V., Lović B. eds. </a:t>
            </a: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Akutni koronarni sindrom, Niš: Codex, 2008:119-135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Ammann P., Pfisterer M., Fehr T., Rickli H. Raised cardiac troponins. </a:t>
            </a:r>
            <a:r>
              <a:rPr b="0" i="1" lang="sl-SI" sz="1000" spc="-1" strike="noStrike">
                <a:solidFill>
                  <a:srgbClr val="000000"/>
                </a:solidFill>
                <a:latin typeface="Verdana"/>
              </a:rPr>
              <a:t>BMJ </a:t>
            </a: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2004;328:1028-9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380520" y="914040"/>
            <a:ext cx="8001000" cy="60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Маркери миокардне некроз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533160" y="20574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Повећане вредности тропонина</a:t>
            </a: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Verdana"/>
              </a:rPr>
              <a:t>У срчаним болестима или интервенцијама рађеним на срцу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3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1" lang="sl-SI" sz="13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sr-CS" sz="1300" spc="-1" strike="noStrike">
                <a:solidFill>
                  <a:srgbClr val="000000"/>
                </a:solidFill>
                <a:latin typeface="Verdana"/>
              </a:rPr>
              <a:t>операција на срцу</a:t>
            </a:r>
            <a:r>
              <a:rPr b="1" lang="sl-SI" sz="1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sl-SI" sz="13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sr-CS" sz="1300" spc="-1" strike="noStrike">
                <a:solidFill>
                  <a:srgbClr val="000000"/>
                </a:solidFill>
                <a:latin typeface="Verdana"/>
              </a:rPr>
              <a:t>срчана инсуфицијенција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3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1" lang="sl-SI" sz="13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sr-CS" sz="1300" spc="-1" strike="noStrike">
                <a:solidFill>
                  <a:srgbClr val="000000"/>
                </a:solidFill>
                <a:latin typeface="Verdana"/>
              </a:rPr>
              <a:t>кардиоверзија</a:t>
            </a:r>
            <a:r>
              <a:rPr b="1" lang="sl-SI" sz="1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sl-SI" sz="1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sl-SI" sz="13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sr-CS" sz="1300" spc="-1" strike="noStrike">
                <a:solidFill>
                  <a:srgbClr val="000000"/>
                </a:solidFill>
                <a:latin typeface="Verdana"/>
              </a:rPr>
              <a:t>дилатативна кардиомиопатија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3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1" lang="sl-SI" sz="1300" spc="-1" strike="noStrike">
                <a:solidFill>
                  <a:srgbClr val="000000"/>
                </a:solidFill>
                <a:latin typeface="Verdana"/>
              </a:rPr>
              <a:t>- PCI</a:t>
            </a:r>
            <a:r>
              <a:rPr b="1" lang="sl-SI" sz="1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sl-SI" sz="1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sl-SI" sz="1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sl-SI" sz="13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sr-CS" sz="1300" spc="-1" strike="noStrike">
                <a:solidFill>
                  <a:srgbClr val="000000"/>
                </a:solidFill>
                <a:latin typeface="Verdana"/>
              </a:rPr>
              <a:t>хипертрофична кардиомиопатија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3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1" lang="sl-SI" sz="13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sr-CS" sz="1300" spc="-1" strike="noStrike">
                <a:solidFill>
                  <a:srgbClr val="000000"/>
                </a:solidFill>
                <a:latin typeface="Verdana"/>
              </a:rPr>
              <a:t>радиофреквентна абла.</a:t>
            </a:r>
            <a:r>
              <a:rPr b="1" lang="sl-SI" sz="1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sl-SI" sz="13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sr-CS" sz="1300" spc="-1" strike="noStrike">
                <a:solidFill>
                  <a:srgbClr val="000000"/>
                </a:solidFill>
                <a:latin typeface="Verdana"/>
              </a:rPr>
              <a:t>миокардитис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3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1" lang="sl-SI" sz="13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sr-CS" sz="1300" spc="-1" strike="noStrike">
                <a:solidFill>
                  <a:srgbClr val="000000"/>
                </a:solidFill>
                <a:latin typeface="Verdana"/>
              </a:rPr>
              <a:t>акутни коронарни син.</a:t>
            </a:r>
            <a:r>
              <a:rPr b="1" lang="sl-SI" sz="1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sl-SI" sz="13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sr-CS" sz="1300" spc="-1" strike="noStrike">
                <a:solidFill>
                  <a:srgbClr val="000000"/>
                </a:solidFill>
                <a:latin typeface="Verdana"/>
              </a:rPr>
              <a:t>тахикардије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Verdana"/>
              </a:rPr>
              <a:t>Током других болести и стањ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3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1" lang="sl-SI" sz="13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sr-CS" sz="1300" spc="-1" strike="noStrike">
                <a:solidFill>
                  <a:srgbClr val="000000"/>
                </a:solidFill>
                <a:latin typeface="Verdana"/>
              </a:rPr>
              <a:t>сепса</a:t>
            </a:r>
            <a:r>
              <a:rPr b="1" lang="sl-SI" sz="1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sl-SI" sz="1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sl-SI" sz="1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sl-SI" sz="13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sr-CS" sz="1300" spc="-1" strike="noStrike">
                <a:solidFill>
                  <a:srgbClr val="000000"/>
                </a:solidFill>
                <a:latin typeface="Verdana"/>
              </a:rPr>
              <a:t>САХ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3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1" lang="sl-SI" sz="13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sr-CS" sz="1300" spc="-1" strike="noStrike">
                <a:solidFill>
                  <a:srgbClr val="000000"/>
                </a:solidFill>
                <a:latin typeface="Verdana"/>
              </a:rPr>
              <a:t>бубрежна инсуф. </a:t>
            </a:r>
            <a:r>
              <a:rPr b="1" lang="sl-SI" sz="1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sl-SI" sz="13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sr-CS" sz="1300" spc="-1" strike="noStrike">
                <a:solidFill>
                  <a:srgbClr val="000000"/>
                </a:solidFill>
                <a:latin typeface="Verdana"/>
              </a:rPr>
              <a:t>шлог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3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1" lang="sl-SI" sz="13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sr-CS" sz="1300" spc="-1" strike="noStrike">
                <a:solidFill>
                  <a:srgbClr val="000000"/>
                </a:solidFill>
                <a:latin typeface="Verdana"/>
              </a:rPr>
              <a:t>плућна емболија</a:t>
            </a:r>
            <a:r>
              <a:rPr b="1" lang="sl-SI" sz="1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sl-SI" sz="1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sl-SI" sz="13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sr-CS" sz="1300" spc="-1" strike="noStrike">
                <a:solidFill>
                  <a:srgbClr val="000000"/>
                </a:solidFill>
                <a:latin typeface="Verdana"/>
              </a:rPr>
              <a:t>хемиотерапија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3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1" lang="sl-SI" sz="13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sr-CS" sz="1300" spc="-1" strike="noStrike">
                <a:solidFill>
                  <a:srgbClr val="000000"/>
                </a:solidFill>
                <a:latin typeface="Verdana"/>
              </a:rPr>
              <a:t>плућна хипертензија</a:t>
            </a:r>
            <a:r>
              <a:rPr b="1" lang="sl-SI" sz="1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sl-SI" sz="13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sr-CS" sz="1300" spc="-1" strike="noStrike">
                <a:solidFill>
                  <a:srgbClr val="000000"/>
                </a:solidFill>
                <a:latin typeface="Verdana"/>
              </a:rPr>
              <a:t>изразит физички напор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6172200" y="624852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mmann P</a:t>
            </a:r>
            <a:r>
              <a:rPr b="0" lang="sl-SI" sz="1200" spc="-1" strike="noStrike">
                <a:solidFill>
                  <a:srgbClr val="000000"/>
                </a:solidFill>
                <a:latin typeface="Verdana"/>
              </a:rPr>
              <a:t>. et al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aised cardiac troponins. </a:t>
            </a:r>
            <a:r>
              <a:rPr b="0" i="1" lang="sl-SI" sz="1200" spc="-1" strike="noStrike">
                <a:solidFill>
                  <a:srgbClr val="000000"/>
                </a:solidFill>
                <a:latin typeface="Verdana"/>
              </a:rPr>
              <a:t>BMJ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004;328:1028-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228240" y="914040"/>
            <a:ext cx="8001000" cy="60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Маркери миокардне некроз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000000"/>
                </a:solidFill>
                <a:latin typeface="Verdana"/>
              </a:rPr>
              <a:t>Анамнез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000000"/>
                </a:solidFill>
                <a:latin typeface="Verdana"/>
              </a:rPr>
              <a:t>Физикални преглед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000000"/>
                </a:solidFill>
                <a:latin typeface="Verdana"/>
              </a:rPr>
              <a:t>Електрокардиографија</a:t>
            </a:r>
            <a:r>
              <a:rPr b="1" lang="sl-SI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000000"/>
                </a:solidFill>
                <a:latin typeface="Verdana"/>
              </a:rPr>
              <a:t>Биохемијски маркери</a:t>
            </a:r>
            <a:r>
              <a:rPr b="1" lang="sl-SI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000000"/>
                </a:solidFill>
                <a:latin typeface="Verdana"/>
              </a:rPr>
              <a:t>Ехокардиографиј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000000"/>
                </a:solidFill>
                <a:latin typeface="Verdana"/>
              </a:rPr>
              <a:t>Стрестест</a:t>
            </a:r>
            <a:r>
              <a:rPr b="1" lang="sl-SI" sz="21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000000"/>
                </a:solidFill>
                <a:latin typeface="Verdana"/>
              </a:rPr>
              <a:t>Коронарографиј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title"/>
          </p:nvPr>
        </p:nvSpPr>
        <p:spPr>
          <a:xfrm>
            <a:off x="304560" y="837720"/>
            <a:ext cx="8305560" cy="68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Комплетна дијагности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6019920" y="6324480"/>
            <a:ext cx="289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C Guidelines for NSTE</a:t>
            </a: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S</a:t>
            </a: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;200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94680" cy="60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Ехокардиографиј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2" name="Picture 3" descr="heart-disease-visual-guide-s17-man-having-echocardiogram"/>
          <p:cNvPicPr/>
          <p:nvPr/>
        </p:nvPicPr>
        <p:blipFill>
          <a:blip r:embed="rId1"/>
          <a:stretch/>
        </p:blipFill>
        <p:spPr>
          <a:xfrm>
            <a:off x="609480" y="1828800"/>
            <a:ext cx="8001000" cy="429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Има велики значај код болесника са акутним коронарним синдромом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Значај постоји и када престане бол у грудима јер се контрактилност још није нормализовал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Ехокардиограм посматра директну последицу исхемије – регионално смањење контрактилно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6477120" y="6156360"/>
            <a:ext cx="2514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Arial"/>
              </a:rPr>
              <a:t>Ostojić M. Preporuke u preventivnom, dijagnostičkom i terapijskom pristupu bolesnika sa bolom u grudima. Beograd 2002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94680" cy="60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Ехокардиографиј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80520" y="837720"/>
            <a:ext cx="8194680" cy="68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Коме стрес - тест</a:t>
            </a:r>
            <a:r>
              <a:rPr b="0" lang="sl-SI" sz="32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7" name="Picture 3" descr="heart-disease-visual-guide-s14-heart-stress-test"/>
          <p:cNvPicPr/>
          <p:nvPr/>
        </p:nvPicPr>
        <p:blipFill>
          <a:blip r:embed="rId1"/>
          <a:stretch/>
        </p:blipFill>
        <p:spPr>
          <a:xfrm>
            <a:off x="685800" y="1752480"/>
            <a:ext cx="7848720" cy="431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Код болесником са могућим АКС-ом и</a:t>
            </a: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недијагностичким ЕКГ-о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нормалним кардиоспецифичним ензимима у два одвојења мерењ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Препорук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Стрес-ехокардиографија у АКС-у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000000"/>
                </a:solidFill>
                <a:latin typeface="Verdana"/>
              </a:rPr>
              <a:t>Класа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 IIa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sr-CS" sz="2100" spc="-1" strike="noStrike">
                <a:solidFill>
                  <a:srgbClr val="000000"/>
                </a:solidFill>
                <a:latin typeface="Verdana"/>
              </a:rPr>
              <a:t>ниво доказа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B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title"/>
          </p:nvPr>
        </p:nvSpPr>
        <p:spPr>
          <a:xfrm>
            <a:off x="304920" y="837720"/>
            <a:ext cx="8270640" cy="68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Стрес - тес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6477120" y="6156360"/>
            <a:ext cx="2514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Arial"/>
              </a:rPr>
              <a:t>Ostojić M. Preporuke u preventivnom, dijagnostičkom i terapijskom pristupu bolesnika sa bolom u grudima. Beograd 2002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762120"/>
            <a:ext cx="827064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Ангиографија</a:t>
            </a:r>
            <a:r>
              <a:rPr b="0" lang="sr-Latn-CS" sz="3200" spc="-1" strike="noStrike">
                <a:solidFill>
                  <a:srgbClr val="000000"/>
                </a:solidFill>
                <a:latin typeface="Verdana"/>
              </a:rPr>
              <a:t> NSTE-A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81532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Ургентна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Tahoma"/>
              </a:rPr>
              <a:t>&lt;2h)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коронарна ангиографија се препоручује код болесника са рефрактерном или рекурентном ангином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удружена са динамичном променом </a:t>
            </a:r>
            <a:r>
              <a:rPr b="0" lang="sl-SI" sz="2200" spc="-1" strike="noStrike">
                <a:solidFill>
                  <a:srgbClr val="000000"/>
                </a:solidFill>
                <a:latin typeface="Verdana"/>
              </a:rPr>
              <a:t>ST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сегмента или </a:t>
            </a:r>
            <a:r>
              <a:rPr b="0" lang="sl-SI" sz="22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 таласа и хемодинамском нестабилношћу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Рана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Tahoma"/>
              </a:rPr>
              <a:t>&lt;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  <a:ea typeface="Tahoma"/>
              </a:rPr>
              <a:t>24h)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  <a:ea typeface="Tahoma"/>
              </a:rPr>
              <a:t>коронарна ангиографија са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  <a:ea typeface="Tahoma"/>
              </a:rPr>
              <a:t> PCI ili CABG,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  <a:ea typeface="Tahoma"/>
              </a:rPr>
              <a:t>код болесника са средњим или високим ризиком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  <a:ea typeface="Tahoma"/>
              </a:rPr>
              <a:t>Елективна код пацијената без поновљених болова у грудима, без знакова срчане слабости, без повишених вредности тропонин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594360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SC Guidelines for NSTE</a:t>
            </a:r>
            <a:r>
              <a:rPr b="0" lang="sl-SI" sz="12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CS</a:t>
            </a:r>
            <a:r>
              <a:rPr b="0" lang="sl-SI" sz="1200" spc="-1" strike="noStrike">
                <a:solidFill>
                  <a:srgbClr val="000000"/>
                </a:solidFill>
                <a:latin typeface="Verdana"/>
              </a:rPr>
              <a:t>;200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533160" y="19047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Унутар прва 3 сата од почетка болова обе реперфузионе стратегије имају исту важност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Супериорност примарне </a:t>
            </a: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PCI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у односу на тромболитичку терапију клинички је релевантна између 3. и 12. сата од акутног коронарног догађај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Примарна</a:t>
            </a: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 PCI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у односу на тромболизу значајно смањује могућност можданог удар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Спасавајућа</a:t>
            </a: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 PCI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се препоручује након неуспешне тромболизе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Rectangle 3"/>
          <p:cNvSpPr/>
          <p:nvPr/>
        </p:nvSpPr>
        <p:spPr>
          <a:xfrm>
            <a:off x="3781080" y="6400800"/>
            <a:ext cx="53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ns Van de Werf,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2008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C Guidelines:Management of STEM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;ACC 200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title"/>
          </p:nvPr>
        </p:nvSpPr>
        <p:spPr>
          <a:xfrm>
            <a:off x="304920" y="762120"/>
            <a:ext cx="827064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Ангиографија</a:t>
            </a:r>
            <a:r>
              <a:rPr b="0" lang="sr-Latn-CS" sz="3200" spc="-1" strike="noStrike">
                <a:solidFill>
                  <a:srgbClr val="000000"/>
                </a:solidFill>
                <a:latin typeface="Verdana"/>
              </a:rPr>
              <a:t> STE-A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"/>
          <p:cNvPicPr/>
          <p:nvPr/>
        </p:nvPicPr>
        <p:blipFill>
          <a:blip r:embed="rId1"/>
          <a:srcRect l="27084" t="51006" r="24055" b="14076"/>
          <a:stretch/>
        </p:blipFill>
        <p:spPr>
          <a:xfrm>
            <a:off x="304920" y="1600200"/>
            <a:ext cx="8534160" cy="464832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3"/>
          <p:cNvSpPr/>
          <p:nvPr/>
        </p:nvSpPr>
        <p:spPr>
          <a:xfrm>
            <a:off x="152280" y="94680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Медикаментна терапиј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560" y="1980720"/>
            <a:ext cx="84582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Основа коронарне болести је дуготрајни процес атеросклерозе коронарне артериј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Атеросклероза је хронична, инфламаторна, фибропролиферативна болест артерија која се карактерише акумулацијом липида у њиховим зидовим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304560" y="914040"/>
            <a:ext cx="8001000" cy="60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Коронарна болес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456840" y="1980720"/>
            <a:ext cx="79246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Двојна антитромбоцитна терапија АСК-ом и клопидогрелом је стандард у третману пацијената са акутним коронарним синдром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После акутне фазе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наставак терапије са 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100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мг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АСК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 75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мг клопидогрела на дан током 9 до 12 месец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484200" y="946800"/>
            <a:ext cx="57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Антитромбоцитна терапиј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4127400" y="6566760"/>
            <a:ext cx="495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ESC  PCI  Guidelines, AndjuctiveMedications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Sigmund Silber et al. 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4198680" y="6323760"/>
            <a:ext cx="495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ESC  PCI  Guidelines, AndjuctiveMedications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igmund Silber et al.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5" descr="aspi"/>
          <p:cNvPicPr/>
          <p:nvPr/>
        </p:nvPicPr>
        <p:blipFill>
          <a:blip r:embed="rId1"/>
          <a:srcRect l="4706" t="0" r="3062" b="37374"/>
          <a:stretch/>
        </p:blipFill>
        <p:spPr>
          <a:xfrm>
            <a:off x="455760" y="1676520"/>
            <a:ext cx="411300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74" name="Picture 8" descr="aspi 5"/>
          <p:cNvPicPr/>
          <p:nvPr/>
        </p:nvPicPr>
        <p:blipFill>
          <a:blip r:embed="rId2"/>
          <a:srcRect l="4706" t="3429" r="6355" b="36945"/>
          <a:stretch/>
        </p:blipFill>
        <p:spPr>
          <a:xfrm>
            <a:off x="4572000" y="1676520"/>
            <a:ext cx="434340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75" name="Text Box 9"/>
          <p:cNvSpPr/>
          <p:nvPr/>
        </p:nvSpPr>
        <p:spPr>
          <a:xfrm>
            <a:off x="685800" y="5867280"/>
            <a:ext cx="365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Verdana"/>
              </a:rPr>
              <a:t>добар антитромбоцитни ефекат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Text Box 11"/>
          <p:cNvSpPr/>
          <p:nvPr/>
        </p:nvSpPr>
        <p:spPr>
          <a:xfrm>
            <a:off x="380880" y="91440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Пример</a:t>
            </a:r>
            <a:r>
              <a:rPr b="0" lang="sl-SI" sz="3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тест на агрегабилнос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Text Box 12"/>
          <p:cNvSpPr/>
          <p:nvPr/>
        </p:nvSpPr>
        <p:spPr>
          <a:xfrm>
            <a:off x="5029200" y="5867280"/>
            <a:ext cx="365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Verdana"/>
              </a:rPr>
              <a:t>лош антитромбоцитни ефекат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152280" y="1981080"/>
            <a:ext cx="87631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Примењени интравенски првих сати након инфаркта миокарда смањују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интензитет бол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величину инфарк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проценат поремећаја ритм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смртнос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485280" y="946800"/>
            <a:ext cx="331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Бета блокатор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Rectangle 4"/>
          <p:cNvSpPr/>
          <p:nvPr/>
        </p:nvSpPr>
        <p:spPr>
          <a:xfrm>
            <a:off x="4127400" y="6566760"/>
            <a:ext cx="495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ESC  PCI  Guidelines, AndjuctiveMedications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Sigmund Silber et al. 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Text Box 6"/>
          <p:cNvSpPr/>
          <p:nvPr/>
        </p:nvSpPr>
        <p:spPr>
          <a:xfrm>
            <a:off x="3733920" y="6248520"/>
            <a:ext cx="5410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Verdana"/>
              </a:rPr>
              <a:t>Vasiljević Z. Ishemijske bolest srca i principi lečenja. U: Kažić T. i  Ostojić M., ed. Klinička </a:t>
            </a:r>
            <a:r>
              <a:rPr b="0" lang="sr-Latn-CS" sz="1000" spc="-1" strike="noStrike">
                <a:solidFill>
                  <a:srgbClr val="000000"/>
                </a:solidFill>
                <a:latin typeface="Verdana"/>
              </a:rPr>
              <a:t>kardiovaskularna farmakologija, IV izdanje, Beograd: Integra, 2004.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152280" y="190512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Примењени у току инфаркта миокарда смањују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величину инфаркт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ремоделовање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Изразит бенефит је забележен код инфаркта миокарда антериорне локализациј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Примена од првог дана индикована код болесника са инфарктом миокард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461160" y="946800"/>
            <a:ext cx="353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АЦЕ инхибитор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4127400" y="6566760"/>
            <a:ext cx="495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ESC  PCI  Guidelines, AndjuctiveMedications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Sigmund Silber et al. 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3733920" y="6172200"/>
            <a:ext cx="5410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Verdana"/>
              </a:rPr>
              <a:t>1.Vasiljević Z. Ishemijske bolest srca i principi lečenja. U: Kažić T. i  Ostojić M., ed. Klinička </a:t>
            </a:r>
            <a:r>
              <a:rPr b="0" lang="sr-Latn-CS" sz="1000" spc="-1" strike="noStrike">
                <a:solidFill>
                  <a:srgbClr val="000000"/>
                </a:solidFill>
                <a:latin typeface="Verdana"/>
              </a:rPr>
              <a:t>kardiovaskularna farmakologija, IV izdanje, Beograd: Integra, 2004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SC Guidelines for STE</a:t>
            </a:r>
            <a:r>
              <a:rPr b="0" lang="sl-SI" sz="10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CS</a:t>
            </a:r>
            <a:r>
              <a:rPr b="0" lang="sl-SI" sz="1000" spc="-1" strike="noStrike">
                <a:solidFill>
                  <a:srgbClr val="000000"/>
                </a:solidFill>
                <a:latin typeface="Verdana"/>
              </a:rPr>
              <a:t>;2008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456840" y="32763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Verdana"/>
              </a:rPr>
              <a:t>Уместо закључка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People who survive the acute stage of a heart attack have a chance of illness and death that’s 1.5–15 times higher than that of the general population</a:t>
            </a:r>
            <a:r>
              <a:rPr b="0" lang="sl-SI" sz="32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3124080" y="6400800"/>
            <a:ext cx="586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Hurst’s The Heart, Arteries and Veins. 10th ed. New York, NY: McGraw-Hill, 2001: 3–7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533520" y="1980720"/>
            <a:ext cx="8348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c0000"/>
                </a:solidFill>
                <a:latin typeface="Verdana"/>
              </a:rPr>
              <a:t>АТЕРО</a:t>
            </a:r>
            <a:r>
              <a:rPr b="1" lang="sr-CS" sz="2800" spc="-1" strike="noStrike">
                <a:solidFill>
                  <a:srgbClr val="000000"/>
                </a:solidFill>
                <a:latin typeface="Verdana"/>
              </a:rPr>
              <a:t>МАТОЗ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је локализована акумулација меких депозит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масти и фибрин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у субендотелном слоју артеријског зид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због кога настаје задебљање, а касније и отврднуће крвног суд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Verdana"/>
              </a:rPr>
              <a:t>АРТЕРИО</a:t>
            </a:r>
            <a:r>
              <a:rPr b="1" lang="sr-CS" sz="2800" spc="-1" strike="noStrike">
                <a:solidFill>
                  <a:srgbClr val="cc0000"/>
                </a:solidFill>
                <a:latin typeface="Verdana"/>
              </a:rPr>
              <a:t>СКЛЕРОЗА</a:t>
            </a:r>
            <a:r>
              <a:rPr b="0" lang="en-US" sz="24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је хронична, дифузна болест артерија коју карактерише абнормално задебљање и отврднуће њихових зидо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228600" y="838080"/>
            <a:ext cx="876312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Атеросклероз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AutoShape 3"/>
          <p:cNvSpPr/>
          <p:nvPr/>
        </p:nvSpPr>
        <p:spPr>
          <a:xfrm>
            <a:off x="4114800" y="380880"/>
            <a:ext cx="4800600" cy="762120"/>
          </a:xfrm>
          <a:prstGeom prst="downArrowCallout">
            <a:avLst>
              <a:gd name="adj1" fmla="val 52088"/>
              <a:gd name="adj2" fmla="val 157475"/>
              <a:gd name="adj3" fmla="val 14755"/>
              <a:gd name="adj4" fmla="val 66667"/>
            </a:avLst>
          </a:prstGeom>
          <a:solidFill>
            <a:srgbClr val="00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Times YU"/>
              </a:rPr>
              <a:t>АТЕРОГЕНИ РИЗИКОФАКТОР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AutoShape 4"/>
          <p:cNvSpPr/>
          <p:nvPr/>
        </p:nvSpPr>
        <p:spPr>
          <a:xfrm>
            <a:off x="4114800" y="1371600"/>
            <a:ext cx="4800600" cy="685800"/>
          </a:xfrm>
          <a:prstGeom prst="downArrowCallout">
            <a:avLst>
              <a:gd name="adj1" fmla="val 70071"/>
              <a:gd name="adj2" fmla="val 175000"/>
              <a:gd name="adj3" fmla="val 16667"/>
              <a:gd name="adj4" fmla="val 66667"/>
            </a:avLst>
          </a:prstGeom>
          <a:solidFill>
            <a:srgbClr val="00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Times YU"/>
              </a:rPr>
              <a:t>ЕНДОТЕЛНА ДИСФУНКЦИЈ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AutoShape 5"/>
          <p:cNvSpPr/>
          <p:nvPr/>
        </p:nvSpPr>
        <p:spPr>
          <a:xfrm>
            <a:off x="4114800" y="2286000"/>
            <a:ext cx="4800600" cy="762120"/>
          </a:xfrm>
          <a:prstGeom prst="downArrowCallout">
            <a:avLst>
              <a:gd name="adj1" fmla="val 78745"/>
              <a:gd name="adj2" fmla="val 157475"/>
              <a:gd name="adj3" fmla="val 18560"/>
              <a:gd name="adj4" fmla="val 66667"/>
            </a:avLst>
          </a:prstGeom>
          <a:solidFill>
            <a:srgbClr val="00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Times YU"/>
              </a:rPr>
              <a:t>МАСНА МРЉ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AutoShape 6"/>
          <p:cNvSpPr/>
          <p:nvPr/>
        </p:nvSpPr>
        <p:spPr>
          <a:xfrm>
            <a:off x="4114800" y="3200400"/>
            <a:ext cx="4800600" cy="762120"/>
          </a:xfrm>
          <a:prstGeom prst="downArrowCallout">
            <a:avLst>
              <a:gd name="adj1" fmla="val 64571"/>
              <a:gd name="adj2" fmla="val 157475"/>
              <a:gd name="adj3" fmla="val 14583"/>
              <a:gd name="adj4" fmla="val 66667"/>
            </a:avLst>
          </a:prstGeom>
          <a:solidFill>
            <a:srgbClr val="00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Times YU"/>
              </a:rPr>
              <a:t>ТРАНЗИТОРНА ЛЕЗИЈ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AutoShape 7"/>
          <p:cNvSpPr/>
          <p:nvPr/>
        </p:nvSpPr>
        <p:spPr>
          <a:xfrm>
            <a:off x="4114800" y="4038480"/>
            <a:ext cx="4800600" cy="609840"/>
          </a:xfrm>
          <a:prstGeom prst="downArrowCallout">
            <a:avLst>
              <a:gd name="adj1" fmla="val 94326"/>
              <a:gd name="adj2" fmla="val 196798"/>
              <a:gd name="adj3" fmla="val 22394"/>
              <a:gd name="adj4" fmla="val 66667"/>
            </a:avLst>
          </a:prstGeom>
          <a:solidFill>
            <a:srgbClr val="00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Times YU"/>
              </a:rPr>
              <a:t>СТАБИЛАН ПЛА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AutoShape 8"/>
          <p:cNvSpPr/>
          <p:nvPr/>
        </p:nvSpPr>
        <p:spPr>
          <a:xfrm>
            <a:off x="4114800" y="4876920"/>
            <a:ext cx="4800600" cy="838080"/>
          </a:xfrm>
          <a:prstGeom prst="downArrowCallout">
            <a:avLst>
              <a:gd name="adj1" fmla="val 70441"/>
              <a:gd name="adj2" fmla="val 143202"/>
              <a:gd name="adj3" fmla="val 12500"/>
              <a:gd name="adj4" fmla="val 66667"/>
            </a:avLst>
          </a:prstGeom>
          <a:solidFill>
            <a:srgbClr val="00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Times YU"/>
              </a:rPr>
              <a:t>НЕСТАБИЛАН ПЛА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2362320" y="5791320"/>
            <a:ext cx="6553080" cy="838080"/>
          </a:xfrm>
          <a:prstGeom prst="leftArrowCallout">
            <a:avLst>
              <a:gd name="adj1" fmla="val 37124"/>
              <a:gd name="adj2" fmla="val 50000"/>
              <a:gd name="adj3" fmla="val 136944"/>
              <a:gd name="adj4" fmla="val 72252"/>
            </a:avLst>
          </a:prstGeom>
          <a:solidFill>
            <a:srgbClr val="000000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Times YU"/>
              </a:rPr>
              <a:t>КОМПЛИКОВАНИ ПЛА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AutoShape 10"/>
          <p:cNvSpPr/>
          <p:nvPr/>
        </p:nvSpPr>
        <p:spPr>
          <a:xfrm>
            <a:off x="0" y="2743200"/>
            <a:ext cx="3886200" cy="3809880"/>
          </a:xfrm>
          <a:prstGeom prst="irregularSeal2">
            <a:avLst/>
          </a:prstGeom>
          <a:solidFill>
            <a:srgbClr val="000000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Times YU"/>
              </a:rPr>
              <a:t>АКУТН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Times YU"/>
              </a:rPr>
              <a:t>КОРОНАРНИ</a:t>
            </a:r>
            <a:r>
              <a:rPr b="1" lang="en-US" sz="2400" spc="-1" strike="noStrike">
                <a:solidFill>
                  <a:srgbClr val="cc0000"/>
                </a:solidFill>
                <a:latin typeface="Times YU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Times YU"/>
              </a:rPr>
              <a:t>СИНДРО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228600" y="457200"/>
            <a:ext cx="373392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Атеросклероз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27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6840" y="1676520"/>
            <a:ext cx="4724280" cy="441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Verdana"/>
              </a:rPr>
              <a:t>Променљив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Verdana"/>
              </a:rPr>
              <a:t>мајор</a:t>
            </a:r>
            <a:r>
              <a:rPr b="0" lang="sl-SI" sz="19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хипертензија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дуван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ff0000"/>
                </a:solidFill>
                <a:latin typeface="Verdana"/>
              </a:rPr>
              <a:t>дислипидемија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0000"/>
                </a:solidFill>
                <a:latin typeface="Verdana"/>
              </a:rPr>
              <a:t>повишен ниво укупног холестерол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0000"/>
                </a:solidFill>
                <a:latin typeface="Verdana"/>
              </a:rPr>
              <a:t>повишен ниво ЛДЛ-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0000"/>
                </a:solidFill>
                <a:latin typeface="Verdana"/>
              </a:rPr>
              <a:t>низак ниво ХДЛ-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Verdana"/>
              </a:rPr>
              <a:t>предиспонирајући</a:t>
            </a:r>
            <a:r>
              <a:rPr b="0" lang="sl-SI" sz="19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Verdana"/>
              </a:rPr>
              <a:t>гојазност </a:t>
            </a:r>
            <a:r>
              <a:rPr b="0" lang="sr-Latn-CS" sz="1400" spc="-1" strike="noStrike">
                <a:solidFill>
                  <a:srgbClr val="000000"/>
                </a:solidFill>
                <a:latin typeface="Verdana"/>
              </a:rPr>
              <a:t>(BMI ≥ 30 </a:t>
            </a:r>
            <a:r>
              <a:rPr b="0" lang="sr-CS" sz="1400" spc="-1" strike="noStrike">
                <a:solidFill>
                  <a:srgbClr val="000000"/>
                </a:solidFill>
                <a:latin typeface="Verdana"/>
              </a:rPr>
              <a:t>кг</a:t>
            </a:r>
            <a:r>
              <a:rPr b="0" lang="sr-Latn-CS" sz="1400" spc="-1" strike="noStrike">
                <a:solidFill>
                  <a:srgbClr val="000000"/>
                </a:solidFill>
                <a:latin typeface="Verdana"/>
              </a:rPr>
              <a:t>/m2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Verdana"/>
              </a:rPr>
              <a:t>физичка неактивнос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ff0000"/>
                </a:solidFill>
                <a:latin typeface="Verdana"/>
              </a:rPr>
              <a:t>повишени триглицериди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Verdana"/>
              </a:rPr>
              <a:t>претерана употреба алокохол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Verdana"/>
              </a:rPr>
              <a:t>тромбогени и инфламат. фактор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5292720" y="2666880"/>
            <a:ext cx="3352680" cy="1981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Verdana"/>
              </a:rPr>
              <a:t>Непроменљив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25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године живота</a:t>
            </a:r>
            <a:r>
              <a:rPr b="1" lang="sr-Latn-C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25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породично оптерећење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25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0" y="6400800"/>
            <a:ext cx="4859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Pyorala K</a:t>
            </a:r>
            <a:r>
              <a:rPr b="0" lang="en-US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et al. </a:t>
            </a:r>
            <a:r>
              <a:rPr b="0" i="1" lang="sl-SI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Eur</a:t>
            </a:r>
            <a:r>
              <a:rPr b="0" i="1" lang="en-US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 Heart J</a:t>
            </a:r>
            <a:r>
              <a:rPr b="0" lang="en-US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 1994;15:1300–31</a:t>
            </a:r>
            <a:r>
              <a:rPr b="0" lang="sl-SI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                      Ostojić M. &amp; Kanjuh V. </a:t>
            </a:r>
            <a:r>
              <a:rPr b="0" i="1" lang="sl-SI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U Kažić T. &amp; Ostojić M. (ed) </a:t>
            </a:r>
            <a:r>
              <a:rPr b="0" lang="sl-SI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2004: 149-7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3352680" y="4191120"/>
            <a:ext cx="3048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Verdana"/>
                <a:ea typeface="Arial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i</a:t>
            </a:r>
            <a:r>
              <a:rPr b="1" lang="sl-SI" sz="1800" spc="-1" strike="noStrike">
                <a:solidFill>
                  <a:srgbClr val="000000"/>
                </a:solidFill>
                <a:latin typeface="Verdana"/>
                <a:ea typeface="Arial"/>
              </a:rPr>
              <a:t>abetes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 mellitu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228600" y="838080"/>
            <a:ext cx="876312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Атерогени фактори ризи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1066680" y="1828800"/>
            <a:ext cx="6913800" cy="423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4" descr="endo_normal1"/>
          <p:cNvPicPr/>
          <p:nvPr/>
        </p:nvPicPr>
        <p:blipFill>
          <a:blip r:embed="rId1"/>
          <a:stretch/>
        </p:blipFill>
        <p:spPr>
          <a:xfrm>
            <a:off x="1206360" y="1905120"/>
            <a:ext cx="6512040" cy="411156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7"/>
          <p:cNvSpPr/>
          <p:nvPr/>
        </p:nvSpPr>
        <p:spPr>
          <a:xfrm>
            <a:off x="228600" y="838080"/>
            <a:ext cx="876312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Ендотел крвних судо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8001000" cy="60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Фиброзни пла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Фиброзна капа покрива смесу леукоцит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липида и детритуса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што може да створи некротично језгро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Лезија се шири због континуиране адхезије и уласка леукоци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На основи вероватноће развоја компликованог плака</a:t>
            </a: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стабилан плак</a:t>
            </a: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   компликована лезиј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нестабилан плак              компликована лезиј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4038480" y="541008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Verdana"/>
              </a:rPr>
              <a:t>често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3809880" y="49528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Verdana"/>
              </a:rPr>
              <a:t>ретко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Line 9"/>
          <p:cNvSpPr/>
          <p:nvPr/>
        </p:nvSpPr>
        <p:spPr>
          <a:xfrm>
            <a:off x="3505320" y="53341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809880" y="57150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13:37:31Z</dcterms:created>
  <dc:creator>VLADA</dc:creator>
  <dc:description/>
  <dc:language>en-US</dc:language>
  <cp:lastModifiedBy>Marina</cp:lastModifiedBy>
  <dcterms:modified xsi:type="dcterms:W3CDTF">2020-10-01T18:56:01Z</dcterms:modified>
  <cp:revision>276</cp:revision>
  <dc:subject/>
  <dc:title>Ishemijska bolest srca, definicija, uzrok, podela</dc:title>
</cp:coreProperties>
</file>